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ABB-EA97-4BDE-8F72-1918DEAD0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5AB5-6267-4D23-9C08-DB5B7899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389-F37F-448F-9D5B-A014EB03D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58B-7E73-42CC-8CB2-DBD77596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049-9135-46FA-8C72-8789E34D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6BE1-70BF-4B79-88BC-6D8A4338A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317F-13CD-44C4-9DEF-B6D75844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4578-09C2-4F8F-BD0C-732125D5B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C7E-7F56-483A-9ED8-A3555185B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2E66-D1D2-46D3-8914-BB9EFAF45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E812-68A0-4AA2-94EC-9EC925E8C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D036-A7B8-4D51-9038-1735663F2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3679-FFCF-49A8-818A-2AD63ACB5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2083-5805-4767-8C49-EDDE4CB5B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7800-2159-4B3D-BB67-0592E69B0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278E-53D7-4A06-AFCA-1EE433AC7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C3D3-1169-4DB4-8961-43E3CFADDFE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Cash Payments Using a Cash Payments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EBAD-BD3E-4638-980B-7FB1E9FBAAB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08.jpg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1187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ED9-2E72-44C7-B292-A8754B76621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 OF AN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Documents and Settings\mcm08@fuse.net\My Documents\2005 Business Projects\Slides for Century 21 Accounting\Blue\ch09\C21_blue_0909.jpg"/>
          <p:cNvPicPr/>
          <p:nvPr/>
        </p:nvPicPr>
        <p:blipFill>
          <a:blip r:embed="rId1"/>
          <a:stretch/>
        </p:blipFill>
        <p:spPr>
          <a:xfrm>
            <a:off x="304920" y="2593800"/>
            <a:ext cx="8534160" cy="159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Documents and Settings\mcm08@fuse.net\My Documents\2005 Business Projects\Slides for Century 21 Accounting\Blue\ch09\C21_blue_0910.jpg"/>
          <p:cNvPicPr/>
          <p:nvPr/>
        </p:nvPicPr>
        <p:blipFill>
          <a:blip r:embed="rId2"/>
          <a:stretch/>
        </p:blipFill>
        <p:spPr>
          <a:xfrm>
            <a:off x="5486400" y="4479840"/>
            <a:ext cx="3352680" cy="1579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04920" y="1495440"/>
            <a:ext cx="77691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. Paid cash for advertising, $150.00. Check No. 2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-39240" y="43941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-40320" y="475920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-42480" y="512748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-40680" y="548964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-41400" y="585144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797040" y="2209680"/>
            <a:ext cx="411120" cy="1218960"/>
            <a:chOff x="797040" y="2209680"/>
            <a:chExt cx="411120" cy="1218960"/>
          </a:xfrm>
        </p:grpSpPr>
        <p:sp>
          <p:nvSpPr>
            <p:cNvPr id="115" name="Line 21"/>
            <p:cNvSpPr/>
            <p:nvPr/>
          </p:nvSpPr>
          <p:spPr>
            <a:xfrm flipV="1">
              <a:off x="990720" y="2361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79704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31"/>
          <p:cNvGrpSpPr/>
          <p:nvPr/>
        </p:nvGrpSpPr>
        <p:grpSpPr>
          <a:xfrm>
            <a:off x="2666880" y="2209680"/>
            <a:ext cx="478080" cy="1371600"/>
            <a:chOff x="2666880" y="2209680"/>
            <a:chExt cx="478080" cy="1371600"/>
          </a:xfrm>
        </p:grpSpPr>
        <p:sp>
          <p:nvSpPr>
            <p:cNvPr id="118" name="Freeform 22"/>
            <p:cNvSpPr/>
            <p:nvPr/>
          </p:nvSpPr>
          <p:spPr>
            <a:xfrm>
              <a:off x="266688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273384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2"/>
          <p:cNvGrpSpPr/>
          <p:nvPr/>
        </p:nvGrpSpPr>
        <p:grpSpPr>
          <a:xfrm>
            <a:off x="3733920" y="2209680"/>
            <a:ext cx="457200" cy="1371600"/>
            <a:chOff x="3733920" y="2209680"/>
            <a:chExt cx="457200" cy="1371600"/>
          </a:xfrm>
        </p:grpSpPr>
        <p:sp>
          <p:nvSpPr>
            <p:cNvPr id="121" name="Freeform 26"/>
            <p:cNvSpPr/>
            <p:nvPr/>
          </p:nvSpPr>
          <p:spPr>
            <a:xfrm>
              <a:off x="373392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378000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33"/>
          <p:cNvGrpSpPr/>
          <p:nvPr/>
        </p:nvGrpSpPr>
        <p:grpSpPr>
          <a:xfrm>
            <a:off x="5105520" y="2209680"/>
            <a:ext cx="487080" cy="1371600"/>
            <a:chOff x="5105520" y="2209680"/>
            <a:chExt cx="487080" cy="1371600"/>
          </a:xfrm>
        </p:grpSpPr>
        <p:sp>
          <p:nvSpPr>
            <p:cNvPr id="124" name="Freeform 27"/>
            <p:cNvSpPr/>
            <p:nvPr/>
          </p:nvSpPr>
          <p:spPr>
            <a:xfrm>
              <a:off x="510552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518148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34"/>
          <p:cNvGrpSpPr/>
          <p:nvPr/>
        </p:nvGrpSpPr>
        <p:grpSpPr>
          <a:xfrm>
            <a:off x="7523280" y="2209680"/>
            <a:ext cx="447120" cy="1371600"/>
            <a:chOff x="7523280" y="2209680"/>
            <a:chExt cx="447120" cy="1371600"/>
          </a:xfrm>
        </p:grpSpPr>
        <p:sp>
          <p:nvSpPr>
            <p:cNvPr id="127" name="Freeform 25"/>
            <p:cNvSpPr/>
            <p:nvPr/>
          </p:nvSpPr>
          <p:spPr>
            <a:xfrm flipH="1">
              <a:off x="7695360" y="2362320"/>
              <a:ext cx="274680" cy="121896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768"/>
                  </a:moveTo>
                  <a:lnTo>
                    <a:pt x="96" y="76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7523280" y="2209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9973-A1FE-45E7-80F1-801AC50EA23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SUPPLIES FOR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C:\Documents and Settings\mcm08@fuse.net\My Documents\2005 Business Projects\Slides for Century 21 Accounting\Blue\ch09\C21_blue_0911.jpg"/>
          <p:cNvPicPr/>
          <p:nvPr/>
        </p:nvPicPr>
        <p:blipFill>
          <a:blip r:embed="rId1"/>
          <a:srcRect l="0" t="0" r="0" b="58768"/>
          <a:stretch/>
        </p:blipFill>
        <p:spPr>
          <a:xfrm>
            <a:off x="5486400" y="4292640"/>
            <a:ext cx="3371760" cy="167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04920" y="1495440"/>
            <a:ext cx="77691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5. Paid cash for office supplies, $94.00. Check No. 2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4" descr="C:\Documents and Settings\mcm08@fuse.net\My Documents\2005 Business Projects\Slides for Century 21 Accounting\Blue\ch09\C21_blue_0909.jpg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1593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6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-40320" y="447984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6212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16002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331776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456264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82296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for Purchas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d at invoice amount (historical co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ADB-2CF1-4D07-A466-2158C2C6393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723960" y="336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76032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723960" y="4268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rcRect l="55863" t="31531" r="29993" b="14970"/>
          <a:stretch/>
        </p:blipFill>
        <p:spPr>
          <a:xfrm>
            <a:off x="5388120" y="1760400"/>
            <a:ext cx="2476440" cy="409428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0"/>
          <p:cNvCxnSpPr>
            <a:stCxn id="150" idx="3"/>
          </p:cNvCxnSpPr>
          <p:nvPr/>
        </p:nvCxnSpPr>
        <p:spPr>
          <a:xfrm>
            <a:off x="2436480" y="2744640"/>
            <a:ext cx="4190040" cy="175680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cxnSp>
        <p:nvCxnSpPr>
          <p:cNvPr id="154" name="Straight Arrow Connector 12"/>
          <p:cNvCxnSpPr>
            <a:stCxn id="149" idx="3"/>
          </p:cNvCxnSpPr>
          <p:nvPr/>
        </p:nvCxnSpPr>
        <p:spPr>
          <a:xfrm>
            <a:off x="2933280" y="3591000"/>
            <a:ext cx="2553120" cy="121032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cxnSp>
        <p:nvCxnSpPr>
          <p:cNvPr id="155" name="Straight Arrow Connector 14"/>
          <p:cNvCxnSpPr/>
          <p:nvPr/>
        </p:nvCxnSpPr>
        <p:spPr>
          <a:xfrm>
            <a:off x="2933280" y="4500720"/>
            <a:ext cx="2553120" cy="148320"/>
          </a:xfrm>
          <a:prstGeom prst="straightConnector1">
            <a:avLst/>
          </a:prstGeom>
          <a:ln w="9360">
            <a:solidFill>
              <a:srgbClr val="003099"/>
            </a:solidFill>
            <a:miter/>
            <a:tailEnd len="med" type="arrow" w="med"/>
          </a:ln>
        </p:spPr>
      </p:cxnSp>
      <p:sp>
        <p:nvSpPr>
          <p:cNvPr id="156" name="TextBox 15"/>
          <p:cNvSpPr/>
          <p:nvPr/>
        </p:nvSpPr>
        <p:spPr>
          <a:xfrm rot="1461000">
            <a:off x="3545280" y="290628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4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5A2-9126-41AB-BA55-E45F66A5C15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FOR PURC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:\Documents and Settings\mcm08@fuse.net\My Documents\2005 Business Projects\Slides for Century 21 Accounting\Blue\ch09\C21_blue_0912.jpg"/>
          <p:cNvPicPr/>
          <p:nvPr/>
        </p:nvPicPr>
        <p:blipFill>
          <a:blip r:embed="rId1"/>
          <a:srcRect l="894" t="0" r="894" b="0"/>
          <a:stretch/>
        </p:blipFill>
        <p:spPr>
          <a:xfrm>
            <a:off x="304920" y="2286000"/>
            <a:ext cx="8534160" cy="151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Documents and Settings\mcm08@fuse.net\My Documents\2005 Business Projects\Slides for Century 21 Accounting\Blue\ch09\C21_blue_0913.jpg"/>
          <p:cNvPicPr/>
          <p:nvPr/>
        </p:nvPicPr>
        <p:blipFill>
          <a:blip r:embed="rId2"/>
          <a:stretch/>
        </p:blipFill>
        <p:spPr>
          <a:xfrm>
            <a:off x="5562720" y="4343400"/>
            <a:ext cx="3295440" cy="1938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7. Purchased merchandise for cash, $600.00. Check No. 3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-39240" y="43941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-40320" y="4759200"/>
            <a:ext cx="37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-42480" y="512748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-40680" y="548964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-41400" y="585144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76212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19810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329724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5"/>
          <p:cNvSpPr/>
          <p:nvPr/>
        </p:nvSpPr>
        <p:spPr>
          <a:xfrm>
            <a:off x="449568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8143920" y="363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5B1C-F3D2-4E71-ADAF-B5CC9750214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ON ACCOU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RCHAS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C:\Documents and Settings\mcm08@fuse.net\My Documents\2005 Business Projects\Slides for Century 21 Accounting\Blue\ch09\C21_blue_0915.jpg"/>
          <p:cNvPicPr/>
          <p:nvPr/>
        </p:nvPicPr>
        <p:blipFill>
          <a:blip r:embed="rId1"/>
          <a:srcRect l="4527" t="0" r="679" b="74112"/>
          <a:stretch/>
        </p:blipFill>
        <p:spPr>
          <a:xfrm>
            <a:off x="304920" y="2590920"/>
            <a:ext cx="838188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mcm08@fuse.net\My Documents\2005 Business Projects\Slides for Century 21 Accounting\Blue\ch09\C21_blue_0916.jpg"/>
          <p:cNvPicPr/>
          <p:nvPr/>
        </p:nvPicPr>
        <p:blipFill>
          <a:blip r:embed="rId2"/>
          <a:stretch/>
        </p:blipFill>
        <p:spPr>
          <a:xfrm>
            <a:off x="5715000" y="4095720"/>
            <a:ext cx="2971800" cy="2112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304920" y="1495440"/>
            <a:ext cx="77691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8. Paid cash on account to Gulf Craft Supply, $488.04, covering Purchase Invoice No. 82 for $498.00, less 2% discount, $9.96. Check No. 3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-43560" y="4479840"/>
            <a:ext cx="52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of the ven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3808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24382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2418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556272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-41400" y="592776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9"/>
          <p:cNvGrpSpPr/>
          <p:nvPr/>
        </p:nvGrpSpPr>
        <p:grpSpPr>
          <a:xfrm>
            <a:off x="8229600" y="2286000"/>
            <a:ext cx="411120" cy="1325160"/>
            <a:chOff x="8229600" y="2286000"/>
            <a:chExt cx="411120" cy="1325160"/>
          </a:xfrm>
        </p:grpSpPr>
        <p:sp>
          <p:nvSpPr>
            <p:cNvPr id="192" name="Line 27"/>
            <p:cNvSpPr/>
            <p:nvPr/>
          </p:nvSpPr>
          <p:spPr>
            <a:xfrm flipV="1">
              <a:off x="8434440" y="2514240"/>
              <a:ext cx="0" cy="10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8229600" y="22860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7238880" y="2286000"/>
            <a:ext cx="411120" cy="1325160"/>
            <a:chOff x="7238880" y="2286000"/>
            <a:chExt cx="411120" cy="1325160"/>
          </a:xfrm>
        </p:grpSpPr>
        <p:sp>
          <p:nvSpPr>
            <p:cNvPr id="195" name="Line 26"/>
            <p:cNvSpPr/>
            <p:nvPr/>
          </p:nvSpPr>
          <p:spPr>
            <a:xfrm flipV="1">
              <a:off x="7445520" y="2514240"/>
              <a:ext cx="0" cy="10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7238880" y="22860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Box 1"/>
          <p:cNvSpPr/>
          <p:nvPr/>
        </p:nvSpPr>
        <p:spPr>
          <a:xfrm>
            <a:off x="46483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3"/>
          <p:cNvCxnSpPr/>
          <p:nvPr/>
        </p:nvCxnSpPr>
        <p:spPr>
          <a:xfrm>
            <a:off x="6781320" y="2515680"/>
            <a:ext cx="305640" cy="5464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C5B-2CFA-4374-925E-494E93CF47B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3" descr="C:\Documents and Settings\mcm08@fuse.net\My Documents\2005 Business Projects\Slides for Century 21 Accounting\Blue\ch09\C21_blue_0918.jpg"/>
          <p:cNvPicPr/>
          <p:nvPr/>
        </p:nvPicPr>
        <p:blipFill>
          <a:blip r:embed="rId1"/>
          <a:srcRect l="0" t="0" r="1323" b="0"/>
          <a:stretch/>
        </p:blipFill>
        <p:spPr>
          <a:xfrm>
            <a:off x="263520" y="2286000"/>
            <a:ext cx="8575560" cy="1619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PAYMENTS ON ACCOU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RCHAS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13. Paid cash on account to American Paint, $2,650.00, covering Purchase Invoice No. 77. Check No. 3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-39240" y="41148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-42480" y="4479840"/>
            <a:ext cx="45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vendor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-42480" y="4848120"/>
            <a:ext cx="39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-40680" y="521028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-41400" y="557208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808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43828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34332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568476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751356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4CC0-B00F-45FF-B7F7-A798DFDCA87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payment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0T17:45:17Z</dcterms:modified>
  <cp:revision>23</cp:revision>
  <dc:subject/>
  <dc:title>Lesson 9-1</dc:title>
</cp:coreProperties>
</file>